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C62D-A40D-4A51-88D6-13415FEC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8DFB-EDFF-4375-80DD-A1A455B5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5874-F161-4F27-B5F0-F9148B61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7D14-78DB-4D81-97EF-EAD3A7F4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563A-A295-45FD-8F60-4332D69B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2DDB-0A70-4DEF-A153-0E4DC25D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1BBD-5E07-48C6-B4B4-C43461D6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2DAD-A735-44F8-92A5-9445B64E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9024-030C-470F-A313-ED32C389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7FD1-5B9B-48C2-9ABE-846D156E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2B8C-1AB8-4B08-9BE9-C345D829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6FE8-3798-4B2A-B322-B2AB6360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8772-B07B-43DE-B990-D3298040D8C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erating the spirit of entrepreneurship in young adult Europeans</a:t>
            </a: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98989"/>
                </a:solidFill>
                <a:latin typeface="Calibri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98989"/>
                </a:solidFill>
                <a:latin typeface="Calibri"/>
              </a:rPr>
              <a:t>Res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98989"/>
                </a:solidFill>
                <a:latin typeface="Calibri"/>
              </a:rPr>
              <a:t>By Eurog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arket feasibility study of the ide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echnical feasibility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conomical feasibility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inancial fesasibility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Tools cho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ssistance to choose the tools with regards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egal su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elf-Fu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xternal Funding - Credit access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egislative tools assis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hoice of legal forms (company, cooperative, individual,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elationships among members of management (human resources manag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ws, Rules and Regualtion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Self Fu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valuation of own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valuation of self-fu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redit fu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vailable funding in the local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vailable funding for the developed id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unding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Guarant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Business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ver sheet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escribing your business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escribing your invention goods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escribing your location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arketing plan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eparation and presentation of a business project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Business Establish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trategic pla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Operational strate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Organisation of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Organisation of human resources manag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Verification of economic and financial fea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nalysis of the performance ra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Start up – Stage &amp; Tu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tart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tages/Tu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utors/Tutor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Business consoli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itiation of bu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usiness’ consoli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magine 2" descr="M1.gif"/>
          <p:cNvPicPr/>
          <p:nvPr/>
        </p:nvPicPr>
        <p:blipFill>
          <a:blip r:embed="rId1"/>
          <a:stretch/>
        </p:blipFill>
        <p:spPr>
          <a:xfrm>
            <a:off x="1922400" y="0"/>
            <a:ext cx="529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nalysis of terrri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ter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ata gath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WOT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all for Lear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ecruitments of discents/lear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dvertis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ookl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eafl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Web-ban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ubblic offices – lists of reduntant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ubblic offices – lists of unemploy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Universities - 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earners’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eparation of questionna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Questionnaires – fill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V – fill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ackground/Education/Exper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spirations Seminars (LT – S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otivations Seminars (L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T Seminars – (T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valuation tests for entrepreneurship 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ormative/Informative Worksh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velopment of communication and collaboration skills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(LT – S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uccesseful Business stories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ntract job and self-employment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usiness ideas and partners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re of the business project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equirements to prepare a business plan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ntent of a business project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Data analysis &amp; working grou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ata 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tatistics and grap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ata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ata aggreg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reation of working groups (study case approach - 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Idea of Entrepr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tudy case methodology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eveloping, definition and analysis of the id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ase study classroom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ase study class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ebriefing class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Market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tudy case methodology (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arket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ustomers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nalysis of possible competi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urogems</dc:creator>
  <dc:description/>
  <dc:language>en-US</dc:language>
  <cp:lastModifiedBy>Pol</cp:lastModifiedBy>
  <dcterms:modified xsi:type="dcterms:W3CDTF">2009-04-14T17:48:50Z</dcterms:modified>
  <cp:revision>26</cp:revision>
  <dc:subject/>
  <dc:title>Generating the spirit of entrepreneuship in young adults</dc:title>
</cp:coreProperties>
</file>