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B388-A538-4C4F-BD15-425A44F5E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9314-50F8-469F-9D41-C1145EEFE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BBE8-56C7-4CAC-8582-72A6BFA61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12BE-776D-4553-8756-4D96AC06A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D10A-B09E-43C5-AF9F-93B70B553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C664-EFB9-46D9-A5B1-DDDA043E8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DA5C-AD79-49EF-B701-C55EEE695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1110-B97A-43CD-87D0-C6332A0A6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A156-EA10-4E82-BDF4-C5D5C1787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9DDC-C39D-47F3-B56F-83EA031D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5D8B-10FD-4924-BABD-4A46DA6FF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8409-A854-4140-A58B-27FAA64E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423A2-133E-4F88-8932-853059D89547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Generating the spirit of entrepreneurship in young adult Europeans</a:t>
            </a: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898989"/>
                </a:solidFill>
                <a:latin typeface="Calibri"/>
              </a:rPr>
              <a:t>Method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898989"/>
                </a:solidFill>
                <a:latin typeface="Calibri"/>
              </a:rPr>
              <a:t>Resu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898989"/>
                </a:solidFill>
                <a:latin typeface="Calibri"/>
              </a:rPr>
              <a:t>By Eurog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Feasibility Stu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Market feasibility study of the ide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Technical feasibility analy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Economical feasibility analy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Financial fesasibility analy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Tools cho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Assistance to choose the tools with regards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Legal su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Self-Fun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External Funding - Credit access iss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Legislative tools assist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hoice of legal forms (company, cooperative, individual,.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Relationships among members of management (human resources manageme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Laws, Rules and Regualtions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Self Fun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Evaluation of own re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Evaluation of self-fun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Credit fun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Available funding in the local ar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Available funding for the developed id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Funding ac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Guarante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Business Pl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over sheet (P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Describing your business (P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Describing your invention goods (P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Describing your location (P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Marketing plan (P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Preparation and presentation of a business project (P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Business Establish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Strategic plan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Operational strate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Organisation of p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Organisation of human resources manag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Verification of economic and financial feasi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Analysis of the performance rat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Start up – Stage &amp; Tu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Start 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Stages/Tuto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Tutors/Tutor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Business consolid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Initiation of busi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Business’ consolid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Immagine 2" descr="M1.gif"/>
          <p:cNvPicPr/>
          <p:nvPr/>
        </p:nvPicPr>
        <p:blipFill>
          <a:blip r:embed="rId1"/>
          <a:stretch/>
        </p:blipFill>
        <p:spPr>
          <a:xfrm>
            <a:off x="1922400" y="0"/>
            <a:ext cx="5299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Analysis of terrrit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Intervie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Questionnai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Surve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Data gathe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SWOT analy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Call for Lear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Recruitments of discents/learn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Advertis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Bookle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Leafle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Web-bann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Pubblic offices – lists of reduntant work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Pubblic offices – lists of unemploy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Universities - Schoo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Learners’ 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Preparation of questionnai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Questionnaires – fill 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V – fill 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Background/Education/Experi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Aspirations Seminars (LT – S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Motivations Seminars (L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IT Seminars – (T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Evaluation tests for entrepreneurship ski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Formative/Informative Worksho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evelopment of communication and collaboration skills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(LT – S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Successeful Business stories (P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ontract job and self-employment (P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Business ideas and partners (P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ore of the business project (P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Requirements to prepare a business plan (P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ontent of a business project (P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Data analysis &amp; working grou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Data proces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Statistics and grap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Data analy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Data aggreg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reation of working groups (study case approach - P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Idea of Entrepr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Study case methodology (P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Developing, definition and analysis of the id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ase study classroom (P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ase study class (P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Debriefing class (P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Market 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Study case methodology (P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Market analy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ustomers analy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Analysis of possible competi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urogems</dc:creator>
  <dc:description/>
  <dc:language>en-US</dc:language>
  <cp:lastModifiedBy>Pol</cp:lastModifiedBy>
  <dcterms:modified xsi:type="dcterms:W3CDTF">2009-04-14T17:48:50Z</dcterms:modified>
  <cp:revision>26</cp:revision>
  <dc:subject/>
  <dc:title>Generating the spirit of entrepreneuship in young adults</dc:title>
</cp:coreProperties>
</file>