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69C-B2CE-43B6-8488-96385CD5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D67-0F0C-409B-AA79-94A375E9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9A2-63E0-43E0-8B01-262EC4F7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88B-A5AE-4888-A9FB-1BF4C7B6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4E1-0F07-473F-B987-420B0253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40C-C8D3-4D02-9705-9F39048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AAF-48B5-4D9E-A210-FFCCC25D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E03-C0D9-4B6E-8346-6067C08F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530-A529-40BA-B972-EAB79161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A0A-E6F8-4E1E-B42F-0CE051E4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4B6-B0FE-4F26-B807-1AB0FF6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77A-54CA-4DEF-9C8D-3CAB2D7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DE21-614C-4753-9E17-6B9B84B1BDB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Agriculture" TargetMode="External"/><Relationship Id="rId3" Type="http://schemas.openxmlformats.org/officeDocument/2006/relationships/hyperlink" Target="http://en.wikipedia.org/wiki/Horticulture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e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By  Simone Caram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Eurogems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egnaposto contenuto 3" descr="index.jpg"/>
          <p:cNvPicPr/>
          <p:nvPr/>
        </p:nvPicPr>
        <p:blipFill>
          <a:blip r:embed="rId1"/>
          <a:stretch/>
        </p:blipFill>
        <p:spPr>
          <a:xfrm>
            <a:off x="3143160" y="1857240"/>
            <a:ext cx="2786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 definition -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uld be defined a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d patter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ac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ognitive constructs, and affective understanding that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rn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social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se shared patterns identify the members of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le also distinguishing those of another grou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li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eri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s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o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egnaposto contenuto 3" descr="Amore_Psiche.jpg"/>
          <p:cNvPicPr/>
          <p:nvPr/>
        </p:nvPicPr>
        <p:blipFill>
          <a:blip r:embed="rId1"/>
          <a:stretch/>
        </p:blipFill>
        <p:spPr>
          <a:xfrm>
            <a:off x="3643200" y="1428840"/>
            <a:ext cx="475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: dynamic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.constantly evolving values, beliefs, knowledge and tradi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nge in time and in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Segnaposto contenuto 3" descr="bucarest 164r.jpg"/>
          <p:cNvPicPr/>
          <p:nvPr/>
        </p:nvPicPr>
        <p:blipFill>
          <a:blip r:embed="rId1"/>
          <a:stretch/>
        </p:blipFill>
        <p:spPr>
          <a:xfrm>
            <a:off x="2031840" y="195732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ultural heritage is a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group of resources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herited from the past which people identify, independently of ownership, as a reflection and expression of their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onstantly evolving values, beliefs, knowledge and tradition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 It includes all aspects of the environment resulting from the interaction between people and places through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heritage community consists of people who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specific aspects of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cultural heritage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hich they wish, within the framework of public action,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to sustain and transmit to future gene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egnaposto contenuto 3" descr="bucarest 041r.jpg"/>
          <p:cNvPicPr/>
          <p:nvPr/>
        </p:nvPicPr>
        <p:blipFill>
          <a:blip r:embed="rId1"/>
          <a:stretch/>
        </p:blipFill>
        <p:spPr>
          <a:xfrm>
            <a:off x="2031840" y="195732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ropean 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l forms of cultural heritage in Europe together constitute a shared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ource of remembrance, understanding, identity, cohesion and crea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The ideals, principles and valu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derived from the experience gained through progress and past conflicts,  foster the development of a peaceful and stable society, founded on respect for human rights, democracy and the rule of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al 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egnaposto contenuto 3" descr="Immagine 33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Knowledge &amp;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nvironment (friends, people in gener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edia (TV, Radio, Newspap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ne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rom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ati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ultu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emming from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lere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aning "to cultivat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oeber, A.L., &amp; Kluckhoh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a list of 164 definitions of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concept first emerged in eighteenth and nineteenth century Europe, it connot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ultiv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improvement, as i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gri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orti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Knowledge &amp;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the knowledge belong just to what we learn from the books or from the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ed information and secondary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re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ju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itation of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 – dyna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e changes in time and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hat we learn could be already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ortance of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-juices: to judge before…kn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mportance of knowledge a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 new book is already 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Segnaposto contenuto 3" descr="cultura.jpg"/>
          <p:cNvPicPr/>
          <p:nvPr/>
        </p:nvPicPr>
        <p:blipFill>
          <a:blip r:embed="rId1"/>
          <a:stretch/>
        </p:blipFill>
        <p:spPr>
          <a:xfrm>
            <a:off x="1190520" y="1600200"/>
            <a:ext cx="676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kind of inform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imary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rect knowled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rect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ar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ouch by h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imary source could be troug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look with our 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listen with our 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 touch with our h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mportance of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form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tercultur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n – form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ty in Divers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egnaposto contenuto 5" descr="Dialogo interculturale.jpg"/>
          <p:cNvPicPr/>
          <p:nvPr/>
        </p:nvPicPr>
        <p:blipFill>
          <a:blip r:embed="rId1"/>
          <a:stretch/>
        </p:blipFill>
        <p:spPr>
          <a:xfrm>
            <a:off x="2965320" y="1600200"/>
            <a:ext cx="3213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uropean Cultural ident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uropean Cultural divers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iversity inside each country (spa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iversity with the time spending i.e. Istambul 2005 is different from Istambul 2008 (tim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ntegration of min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Multicultural and intercultural exchan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ntercultural awaren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Cultural coope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Awareness of cultural divers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ocial Inclusion and integ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ulture &amp;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e, values and citizenship are strictly re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e is for instance connected with the following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p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olle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preh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egnaposto contenuto 3" descr="family-love.jpg"/>
          <p:cNvPicPr/>
          <p:nvPr/>
        </p:nvPicPr>
        <p:blipFill>
          <a:blip r:embed="rId1"/>
          <a:stretch/>
        </p:blipFill>
        <p:spPr>
          <a:xfrm>
            <a:off x="5715000" y="4572000"/>
            <a:ext cx="3179880" cy="2120760"/>
          </a:xfrm>
          <a:prstGeom prst="rect">
            <a:avLst/>
          </a:prstGeom>
          <a:ln w="0">
            <a:noFill/>
          </a:ln>
        </p:spPr>
      </p:pic>
      <p:pic>
        <p:nvPicPr>
          <p:cNvPr id="102" name="Segnaposto contenuto 3" descr="freedom3.jpg"/>
          <p:cNvPicPr/>
          <p:nvPr/>
        </p:nvPicPr>
        <p:blipFill>
          <a:blip r:embed="rId2"/>
          <a:stretch/>
        </p:blipFill>
        <p:spPr>
          <a:xfrm>
            <a:off x="4714920" y="3429000"/>
            <a:ext cx="1792080" cy="179244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5" descr="Tolleranza2.jpg"/>
          <p:cNvPicPr/>
          <p:nvPr/>
        </p:nvPicPr>
        <p:blipFill>
          <a:blip r:embed="rId3"/>
          <a:stretch/>
        </p:blipFill>
        <p:spPr>
          <a:xfrm>
            <a:off x="3857760" y="5264280"/>
            <a:ext cx="21430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nineteenth century it came to refer first to the betterment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inement of the individu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specially throug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n to the fulfillment of national aspirations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mid-nineteenth century some scientists began to argue that culture signifie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versal human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ow intercultural dialogue can be translated into concrete actions that can inspire others and be adapted to different contex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est practices (book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Programs about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ducation and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Youth in Ac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Youth Ex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uropean Voluntary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raining Co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ntercultur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ar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dap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eking  for the tr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olle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utual ex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utual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No -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gid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ix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tere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losed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fl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lse per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lse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al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ect for people’s cultural origins is at the heart of the EU programs, as is the desire to fight against racism and xenophobia – forces that undermine European values and people’s solida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pen the mi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ra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o ab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now other languages, other cultures, other way of l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ialogue and interact with youngsters of different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- Education and 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fe Long Learning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en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Grundtv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min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b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work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ultural vis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xhib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b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mpa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reativity, Dialogue, Informal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est practice hand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uidelines CD-ROM/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roch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ook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ollow up (dissemination, sharing experience with other NGO’s, with other stud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twentieth century the term was used in two s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refer to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olved human capacit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classify and repres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peri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ymbolically and t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ct imaginatively and creativ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erred to distinc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ys that people liv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different parts of the world classified and represented their experiences, and acted creativ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mo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NITY IN DIVERS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egnaposto contenuto 5" descr="I popoli come biglie,il mondo come contenitore,ma solo nell'insieme la bellezza!.JPG"/>
          <p:cNvPicPr/>
          <p:nvPr/>
        </p:nvPicPr>
        <p:blipFill>
          <a:blip r:embed="rId1"/>
          <a:stretch/>
        </p:blipFill>
        <p:spPr>
          <a:xfrm>
            <a:off x="2500200" y="2214720"/>
            <a:ext cx="53946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Unity in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tto means that, via the EU, Europeans are united in working together for peace and prosperity, and that the many different cultures, traditions and languages in Europe are a positive asset for the conti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rvation and valorization of local cultural heritage  and identity, and of cultural min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ducation &amp;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U 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roving the quality and effectiveness of educ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raining system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ilitating access to educ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raining systems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ening up E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raining syste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the wider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asmus is the EU's flagship education and training programme, enabling two hundred thous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s to study and work abro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year, as well as supporting co-operation actions between higher education institutions across Europe. It caters not onl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stu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ut als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fess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siness staf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nt to teach abroad and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versity staf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nt to be trained abro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rasmus programme places great importance on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further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areer prospe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ies show that a period spent abroad not onl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nriches stud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' lives in the academic field but also in the acquisition o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tercultural skil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lf-reli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90% of European universities take part in Erasmus and 1.9 million students have participated since it started in 1987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rasm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tudying abro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working abro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inguistic prepa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 Culture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mo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-border mo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ncourag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national circ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cultural and artistic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os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cultural dialo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A culture is a configuration of learn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results of behavior whose component element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ransmitted by the members of a particula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e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(p. 32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ton, R. (1945)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Cultural Background of Personality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ew Yo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ulture...consists in tho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ve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avi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product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a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may be inherited, that is, passed on from generation to generation independently of the biological genes" (p. 8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son, T. (1949)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Essays in Sociological Theory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lencoe, 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ulture has been defined in a number of ways, but most simply, a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rned and shared behavi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community of interacting human beings" (p. 169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em, J., &amp; Useem, R. (1963)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uman Organizations, 2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3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"Culture consists of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xplicit and implicit, of and for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ehavi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cquired and transmitted by symbols, constituting the distinctive achievements of human groups, including their embodiments in artifacts; the essential core of culture consists of traditional (i.e. historically derived and selected)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dea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especially their attached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valu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; culture systems may, on the one hand, be considered as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roducts of act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on the other as conditioning elements of further action.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Kroeber, A.L., &amp; Kluckhohn, C. (1952).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Culture: A critical review of concepts and definitions.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Harvard University Peabody Museum of American Archeology and Ethnology Papers 47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"Most social scientists today view culture as consisting primarily of the symbolic, ideational, and intangible aspects of human societies. The essence of a culture is not its artifacts, tools, or other tangible cultural elements but how the members of the group interpret, use, and perceive them. It is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values, symbols, interpretation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perspectives that distinguish one people from another in modernized societies; it is not material objects and other tangible aspects of human societies. People within a culture usually interpret the meaning of symbols, artifacts, and behaviors in the same or in similar ways."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anks, J.A., Banks, &amp; McGee, C. A. (1989).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Multicultural education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. Needham Heights, MA: Allyn &amp; Bac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6:09:04Z</dcterms:created>
  <dc:creator>eurogems</dc:creator>
  <dc:description/>
  <dc:language>en-US</dc:language>
  <cp:lastModifiedBy>eurogems</cp:lastModifiedBy>
  <dcterms:modified xsi:type="dcterms:W3CDTF">2009-04-28T17:50:14Z</dcterms:modified>
  <cp:revision>40</cp:revision>
  <dc:subject/>
  <dc:title>EU Culture</dc:title>
</cp:coreProperties>
</file>