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1EE-1BE4-4B1C-B7C6-A6117EEC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4AC-F26C-4BDA-906F-C8849DE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C6-6691-4EE2-AF63-2842A527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6F2-011B-4115-BBC2-E9BC2296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F8A-A414-4227-ADCF-7C7C02F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C10-6B87-4172-968E-F840C50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C6F-BD96-4644-A6BD-901F6E58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EB4-FD25-4817-8E36-722F311A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8D8-5993-4FD7-81B6-56F5266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5F4-B0B4-4AD7-999A-A4FE293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10B-27C4-46D2-BD91-601B6EF0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995-2992-42C4-9602-D4D86215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FFEA-7BC7-44C5-8E88-C7DDFC21756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Agriculture" TargetMode="External"/><Relationship Id="rId3" Type="http://schemas.openxmlformats.org/officeDocument/2006/relationships/hyperlink" Target="http://en.wikipedia.org/wiki/Horticulture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By  Simone Caram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Eurogems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egnaposto contenuto 3" descr="index.jpg"/>
          <p:cNvPicPr/>
          <p:nvPr/>
        </p:nvPicPr>
        <p:blipFill>
          <a:blip r:embed="rId1"/>
          <a:stretch/>
        </p:blipFill>
        <p:spPr>
          <a:xfrm>
            <a:off x="3143160" y="1857240"/>
            <a:ext cx="2786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definition -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uld be defined a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 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ac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ognitive constructs, and affective understanding that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rn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soci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se shared patterns identify the members of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le also distinguishing those of another gro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eri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egnaposto contenuto 3" descr="Amore_Psiche.jpg"/>
          <p:cNvPicPr/>
          <p:nvPr/>
        </p:nvPicPr>
        <p:blipFill>
          <a:blip r:embed="rId1"/>
          <a:stretch/>
        </p:blipFill>
        <p:spPr>
          <a:xfrm>
            <a:off x="3643200" y="1428840"/>
            <a:ext cx="475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: dynamic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.constantly evolving values, beliefs, knowledge and tradi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nge in time and i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egnaposto contenuto 3" descr="bucarest 164r.jpg"/>
          <p:cNvPicPr/>
          <p:nvPr/>
        </p:nvPicPr>
        <p:blipFill>
          <a:blip r:embed="rId1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ultural heritage is a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group of resources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herited from the past which people identify, independently of ownership, as a reflection and expression of their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onstantly evolving values, beliefs, knowledge and tradition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 It includes all aspects of the environment resulting from the interaction between people and places through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heritage community consists of people who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specific aspects of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ultural heritag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hich they wish, within the framework of public action,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to sustain and transmit to future gen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egnaposto contenuto 3" descr="bucarest 041r.jpg"/>
          <p:cNvPicPr/>
          <p:nvPr/>
        </p:nvPicPr>
        <p:blipFill>
          <a:blip r:embed="rId1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ropean 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l forms of cultural heritage in Europe together constitute a shared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ource of remembrance, understanding, identity, cohesion and crea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The ideals, principles and valu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derived from the experience gained through progress and past conflicts,  foster the development of a peaceful and stable society, founded on respect for human rights, democracy and the rule of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egnaposto contenuto 3" descr="Immagine 33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nowledge &amp;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nvironment (friends, people in gene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dia (TV, Radio, Newspap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ne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ti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ltu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emming from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lere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aning "to cultivat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oeber, A.L., &amp; Kluckhoh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a list of 164 definitions of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concept first emerged in eighteenth and nineteenth century Europe, it connot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ulti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mprovement, as i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gri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ort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nowledge &amp;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knowledge belong just to what we learn from the books or from the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information and secondary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e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ju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itation of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–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 changes in time and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hat we learn could be already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ortance of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-juices: to judge before…kn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ortance of knowledge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new book is already 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Segnaposto contenuto 3" descr="cultura.jpg"/>
          <p:cNvPicPr/>
          <p:nvPr/>
        </p:nvPicPr>
        <p:blipFill>
          <a:blip r:embed="rId1"/>
          <a:stretch/>
        </p:blipFill>
        <p:spPr>
          <a:xfrm>
            <a:off x="1190520" y="1600200"/>
            <a:ext cx="676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kind of inform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ect knowled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ect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ar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ouch by h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imary source could be troug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look with our 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listen with our 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touch with our h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mportance of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cultur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– 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ty in Divers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egnaposto contenuto 5" descr="Dialogo interculturale.jpg"/>
          <p:cNvPicPr/>
          <p:nvPr/>
        </p:nvPicPr>
        <p:blipFill>
          <a:blip r:embed="rId1"/>
          <a:stretch/>
        </p:blipFill>
        <p:spPr>
          <a:xfrm>
            <a:off x="2965320" y="1600200"/>
            <a:ext cx="321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uropean Cultural ident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uropean Cultural d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iversity inside each country (spa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iversity with the time spending i.e. Istambul 2005 is different from Istambul 2008 (ti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ntegration of min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Multicultural and intercultural exchan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ntercultural aware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Cultural coop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Awareness of cultural divers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ocial Inclusion and integ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&amp;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, values and citizenship are strictly 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 is for instance connected with the following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p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lle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preh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egnaposto contenuto 3" descr="family-love.jpg"/>
          <p:cNvPicPr/>
          <p:nvPr/>
        </p:nvPicPr>
        <p:blipFill>
          <a:blip r:embed="rId1"/>
          <a:stretch/>
        </p:blipFill>
        <p:spPr>
          <a:xfrm>
            <a:off x="5715000" y="4572000"/>
            <a:ext cx="3179880" cy="2120760"/>
          </a:xfrm>
          <a:prstGeom prst="rect">
            <a:avLst/>
          </a:prstGeom>
          <a:ln w="0">
            <a:noFill/>
          </a:ln>
        </p:spPr>
      </p:pic>
      <p:pic>
        <p:nvPicPr>
          <p:cNvPr id="102" name="Segnaposto contenuto 3" descr="freedom3.jpg"/>
          <p:cNvPicPr/>
          <p:nvPr/>
        </p:nvPicPr>
        <p:blipFill>
          <a:blip r:embed="rId2"/>
          <a:stretch/>
        </p:blipFill>
        <p:spPr>
          <a:xfrm>
            <a:off x="4714920" y="3429000"/>
            <a:ext cx="1792080" cy="17924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5" descr="Tolleranza2.jpg"/>
          <p:cNvPicPr/>
          <p:nvPr/>
        </p:nvPicPr>
        <p:blipFill>
          <a:blip r:embed="rId3"/>
          <a:stretch/>
        </p:blipFill>
        <p:spPr>
          <a:xfrm>
            <a:off x="3857760" y="5264280"/>
            <a:ext cx="21430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ineteenth century it came to refer first to the bettermen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inement of the individu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specially throug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to the fulfillment of national aspirations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mid-nineteenth century some scientists began to argue that culture signifie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versal human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ow intercultural dialogue can be translated into concrete actions that can inspire others and be adapted to different contex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est practices (book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Programs about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ducation and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Youth in Ac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outh 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uropean Voluntary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raining Co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ar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dap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king  for the tr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olle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utual 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utual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o -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g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ix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ere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losed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fl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lse 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lse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al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 for people’s cultural origins is at the heart of the EU programs, as is the desire to fight against racism and xenophobia – forces that undermine European values and people’s solid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pen the m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ra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o ab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now other languages, other cultures, other way of l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alogue and interact with youngsters of different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- Education and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fe Long Learning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en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rundtv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vis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hib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mpa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reativity, Dialogue, In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est practice hand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uidelines CD-ROM/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roch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llow up (dissemination, sharing experience with other NGO’s, with other stud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twentieth century the term was used in two s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refer to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olved human capacit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classify and repres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ymbolically and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ct imaginatively and creativ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erred to distinc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ys that people liv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different parts of the world classified and represented their experiences, and acted creativ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TY IN DIVERS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egnaposto contenuto 5" descr="I popoli come biglie,il mondo come contenitore,ma solo nell'insieme la bellezza!.JPG"/>
          <p:cNvPicPr/>
          <p:nvPr/>
        </p:nvPicPr>
        <p:blipFill>
          <a:blip r:embed="rId1"/>
          <a:stretch/>
        </p:blipFill>
        <p:spPr>
          <a:xfrm>
            <a:off x="2500200" y="2214720"/>
            <a:ext cx="53946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Unity in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tto means that, via the EU, Europeans are united in working together for peace and prosperity, and that the many different cultures, traditions and languages in Europe are a positive asset for the cont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rvation and valorization of local cultural heritage  and identity, and of cultural min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ducation &amp;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U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roving the quality and effectiveness of educ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raining system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ilitating access to educ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raining systems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ing up E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raining syste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the wider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asmus is the EU's flagship education and training programme, enabling two hundred thous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to study and work abro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year, as well as supporting co-operation actions between higher education institutions across Europe. It caters not on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stu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ut als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fess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siness staf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nt to teach abroad and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versity staf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nt to be trained abro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rasmus programme places great importance o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further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reer prospe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ies show that a period spent abroad not onl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nriches stud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' lives in the academic field but also in the acquisition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cultural skil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lf-reli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90% of European universities take part in Erasmus and 1.9 million students have participated since it started in 1987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ing abro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orking abro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nguistic prepa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mo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-border mo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ncourag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national circ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cultural and artistic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os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A culture is a configuration of learn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results of behavior whose component element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ransmitted by the members of a particula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(p. 32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ton, R. (1945)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Cultural Background of Personality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ew Yo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ulture...consists in th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ve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produc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may be inherited, that is, passed on from generation to generation independently of the biological genes" (p. 8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son, T. (1949)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Essays in Sociological Theory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lencoe, 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ulture has been defined in a number of ways, but most simply, a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rned and shared behavi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community of interacting human beings" (p. 169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em, J., &amp; Useem, R. (1963)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uman Organizations, 2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3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Culture consists of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xplicit and implicit, of and for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cquired and transmitted by symbols, constituting the distinctive achievements of human groups, including their embodiments in artifacts; the essential core of culture consists of traditional (i.e. historically derived and selected)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dea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especially their attached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; culture systems may, on the one hand, be considered as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ducts of ac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on the other as conditioning elements of further action.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Kroeber, A.L., &amp; Kluckhohn, C. (1952).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Culture: A critical review of concepts and definitions.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Harvard University Peabody Museum of American Archeology and Ethnology Papers 47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Most social scientists today view culture as consisting primarily of the symbolic, ideational, and intangible aspects of human societies. The essence of a culture is not its artifacts, tools, or other tangible cultural elements but how the members of the group interpret, use, and perceive them. It is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values, symbols, interpretatio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perspectives that distinguish one people from another in modernized societies; it is not material objects and other tangible aspects of human societies. People within a culture usually interpret the meaning of symbols, artifacts, and behaviors in the same or in similar ways.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anks, J.A., Banks, &amp; McGee, C. A. (1989).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Multicultural education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. Needham Heights, MA: Allyn &amp; Bac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6:09:04Z</dcterms:created>
  <dc:creator>eurogems</dc:creator>
  <dc:description/>
  <dc:language>en-US</dc:language>
  <cp:lastModifiedBy>eurogems</cp:lastModifiedBy>
  <dcterms:modified xsi:type="dcterms:W3CDTF">2009-04-28T17:50:14Z</dcterms:modified>
  <cp:revision>40</cp:revision>
  <dc:subject/>
  <dc:title>EU Culture</dc:title>
</cp:coreProperties>
</file>