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79C-B345-4F15-84D0-4F31353A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45D-8567-4341-9C78-C13D16F2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6CDE-22D6-4BAA-95B5-6BDE710C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9AD-3A32-446E-B7C9-3DEEAEFE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A6F-F5E4-411F-9655-8DFA5800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EE6-35C6-4903-9326-2C75E48D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D76-2B31-493D-86BF-2EBF0D8E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679-1C84-458C-B92F-4EF53899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408-E087-4C94-AE72-94EAFF64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6FEA-6380-4268-8CCF-C2F4F5AA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8AA8-B5C4-4C63-81FD-38365C0A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7F4-C4EE-44D8-9D7D-1EE3D448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296280" cy="9296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559B-72AA-45C4-A773-4325ACE72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626160" y="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imes New Roman"/>
              </a:rPr>
              <a:t>Appreciative Inqui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00cc"/>
                </a:solidFill>
                <a:latin typeface="Times New Roman"/>
              </a:rPr>
              <a:t>3 Starters </a:t>
            </a:r>
            <a:br>
              <a:rPr sz="4400"/>
            </a:br>
            <a:r>
              <a:rPr b="1" lang="es-ES" sz="4400" spc="-1" strike="noStrike">
                <a:solidFill>
                  <a:srgbClr val="9900cc"/>
                </a:solidFill>
                <a:latin typeface="Times New Roman"/>
              </a:rPr>
              <a:t>for learning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0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45 minut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for community buil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Espace réservé du pied de page 6"/>
          <p:cNvSpPr/>
          <p:nvPr/>
        </p:nvSpPr>
        <p:spPr>
          <a:xfrm>
            <a:off x="1676520" y="6172200"/>
            <a:ext cx="7181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MERCÈ BERNAUS &amp; NEUS LORENZO. ALEXANDRIA, 8-10 JULY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73ff"/>
                </a:solidFill>
                <a:latin typeface="Arial Narrow"/>
              </a:rPr>
              <a:t>Introducing oneself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+ 2 minu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Perso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yourself to your partner, based on what you have DONE and what you have STARTED during the last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Person B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 and write down the things you have in COMMON with the other person… ask for more information if necessary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9900cc"/>
                </a:solidFill>
                <a:latin typeface="Times New Roman"/>
              </a:rPr>
              <a:t>After 2 minutes, change roles</a:t>
            </a:r>
            <a:r>
              <a:rPr b="0" i="1" lang="en-US" sz="3200" spc="-1" strike="noStrike">
                <a:solidFill>
                  <a:srgbClr val="9900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8960" y="2054160"/>
            <a:ext cx="28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1. Pair work :  A &amp;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73ff"/>
                </a:solidFill>
                <a:latin typeface="Arial Narrow"/>
              </a:rPr>
              <a:t>Assertive starting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+ 2 + 2 + 2 minu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981080"/>
            <a:ext cx="7848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2. Group work: (A &amp; B + A’ &amp; B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rite 3 of your personal characteris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lang="en-US" sz="2800" spc="-1" strike="noStrike">
                <a:solidFill>
                  <a:srgbClr val="9973ff"/>
                </a:solidFill>
                <a:latin typeface="Arial"/>
              </a:rPr>
              <a:t>contribute positively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9973ff"/>
                </a:solidFill>
                <a:latin typeface="Arial"/>
              </a:rPr>
              <a:t>help to impr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rojects you are engaged 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itudes? Knowledge? Experien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9000" y="4924440"/>
            <a:ext cx="656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Times New Roman"/>
              </a:rPr>
              <a:t>After 2 minutes, share your id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Times New Roman"/>
              </a:rPr>
              <a:t>in groups of four and ask why, how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a. Individual work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shelf Symbol 7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, by yourself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most important fact that made you feel most </a:t>
            </a: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happ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prou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f yoursel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t might be </a:t>
            </a:r>
            <a:r>
              <a:rPr b="0" lang="en-US" sz="1800" spc="-1" strike="noStrike">
                <a:solidFill>
                  <a:srgbClr val="9973ff"/>
                </a:solidFill>
                <a:latin typeface="Arial"/>
              </a:rPr>
              <a:t>pers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professional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an be from any time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moment you attended the last workshop organized by the Anna Lindh Foundation &amp; the Co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? When? Where? Whom wit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73ff"/>
                </a:solidFill>
                <a:latin typeface="Arial Narrow"/>
              </a:rPr>
              <a:t>Rising Awareness: personal knowledge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 minu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b. Pair work: A &amp;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your colleague about his/her answer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sten carefu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ake notes to have  the most complet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him/her other questions to clarify or to know more about his/her experi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06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9973ff"/>
                </a:solidFill>
                <a:latin typeface="Arial Narrow"/>
              </a:rPr>
              <a:t>Rising Awareness: active listening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5 + 5 minu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24440" y="5791320"/>
            <a:ext cx="40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66ff"/>
                </a:solidFill>
                <a:latin typeface="Times New Roman"/>
              </a:rPr>
              <a:t>After 5 minutes, change ro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c. Plenary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orally each of your colleague’s answers that have touched yo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it is surpri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it is adventur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it reminds you of personal ev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it stirs your emo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it shows expertise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ff"/>
                </a:solidFill>
                <a:latin typeface="Times New Roman"/>
              </a:rPr>
              <a:t>Why do you think this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ff"/>
                </a:solidFill>
                <a:latin typeface="Times New Roman"/>
              </a:rPr>
              <a:t>feels happy and prou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76320" y="38052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reciative Inquiring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9973ff"/>
                </a:solidFill>
                <a:latin typeface="Arial Narrow"/>
              </a:rPr>
              <a:t>Rising Awareness: p</a:t>
            </a:r>
            <a:r>
              <a:rPr b="0" lang="es-ES" sz="4400" spc="-1" strike="noStrike">
                <a:solidFill>
                  <a:srgbClr val="9973ff"/>
                </a:solidFill>
                <a:latin typeface="Arial Narrow"/>
              </a:rPr>
              <a:t>ositive community building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0 minu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00cc"/>
                </a:solidFill>
                <a:latin typeface="Times New Roman"/>
              </a:rPr>
              <a:t>Some thoughts </a:t>
            </a:r>
            <a:br>
              <a:rPr sz="4400"/>
            </a:br>
            <a:r>
              <a:rPr b="1" lang="es-ES" sz="4400" spc="-1" strike="noStrike">
                <a:solidFill>
                  <a:srgbClr val="9900cc"/>
                </a:solidFill>
                <a:latin typeface="Times New Roman"/>
              </a:rPr>
              <a:t>for learning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0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15 minut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for knowledge buil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Espace réservé du pied de page 6"/>
          <p:cNvSpPr/>
          <p:nvPr/>
        </p:nvSpPr>
        <p:spPr>
          <a:xfrm>
            <a:off x="1428840" y="6305400"/>
            <a:ext cx="7181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MERCÈ BERNAUS &amp; NEUS LORENZO. ALEXANDRIA, 8-10 JULY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887480"/>
            <a:ext cx="853452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4. Pair work: A &amp;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ly, write down and suggest some </a:t>
            </a:r>
            <a:r>
              <a:rPr b="0" lang="en-US" sz="2800" spc="-1" strike="noStrike">
                <a:solidFill>
                  <a:srgbClr val="9973ff"/>
                </a:solidFill>
                <a:latin typeface="Arial"/>
              </a:rPr>
              <a:t>f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ould improve any project, if all the involved participants would follow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ions? Communication? Language? Time? Resources?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After 2 minut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hare with your partn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B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for practical examples, concrete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73ff"/>
                </a:solidFill>
                <a:latin typeface="Arial Narrow"/>
              </a:rPr>
              <a:t>Rising collective assessment 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5 + 5 minu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5:58:26Z</dcterms:created>
  <dc:creator>Neus Lorenzo</dc:creator>
  <dc:description/>
  <dc:language>en-US</dc:language>
  <cp:lastModifiedBy>merce bernaus</cp:lastModifiedBy>
  <dcterms:modified xsi:type="dcterms:W3CDTF">2008-07-05T12:33:18Z</dcterms:modified>
  <cp:revision>8</cp:revision>
  <dc:subject/>
  <dc:title>3 Starters  for learning together</dc:title>
</cp:coreProperties>
</file>